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03E-B0D1-4069-9F5C-269A4143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D65-CAC0-4B90-A360-C91E3A18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0DD-9351-4E09-910C-F66E3C2B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E92-7422-4234-A04E-A1E1A332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3F33-001E-4851-90FD-99DF7878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2A4A-02F4-4891-BFF6-708B8C83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A52E-8F64-4A8A-8634-F3A0B40A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6C73-4825-4CD8-B053-4B417465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928A-BFE9-4331-9636-F109531A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6D74-7EA0-44D8-8FCE-FC8C46B2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3607-7FB7-43E3-9DC5-7C0E86DA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9A5-C810-4F6A-AD6C-29A1A49C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317D-64BC-45A6-9041-97B0C1D1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4F7C-4EAA-4067-95A7-941B87F0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334F-DC4A-4656-AF99-8F426497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4675-03A8-4C38-975A-0683A094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783F-BDB3-46B4-8BAE-355F2765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43C-08BC-448B-A9E0-CBE2691C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F1F-A4CB-4038-B295-2172C7AE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9331-E093-4751-8CFE-F62B1607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E75-6E58-407F-996C-8A76E242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106-54CF-40A2-8B54-3A3DCB88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F4A-A812-4D84-A6E1-1A9954D6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4A95-BF88-431F-91AB-E109C009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3D5D-CE14-4E86-BFC3-39F4E791512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0F8B-3227-4CAA-9950-405B5041E06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reaties in Canad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Backgrou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rinciples of Interpretation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 treaty represents an exchange of solemn promises between the Crown and Indian nations and the nature of this agreement is sac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mbiguities and doubtful expressions in (historic) treaties must be resolved peacefully and in court of law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Extinguishment of treaty rights to be proven by Crown and justified through the legal process- the judicial syste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400" y="1600200"/>
            <a:ext cx="88963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reaties have been defined as formal agreements between states that often consider land, property, and public welfare between those states, and the citizens of those states, for perpetu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 Treaty is a formal agreement between two parties. The Numbered Treaties, which cover all of Saskatchewan, are formal agreements that created a relationship between the Crown and First Nations. As a result, each party has certain expectations and obligations, both explicit and implic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cc"/>
                </a:solidFill>
                <a:latin typeface="Comic Sans MS"/>
              </a:rPr>
              <a:t>Are treaties more than legal contract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Comic Sans MS"/>
              </a:rPr>
              <a:t>British common law and traditional perceptions of order would demand that these rights and benefits be guaranteed by the British Crown through the Canadian governme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Comic Sans MS"/>
              </a:rPr>
              <a:t>A source of tension between the First Nations and the Federal government stems from conflicting beliefs about the legal/moral obligations of these treati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Comic Sans MS"/>
              </a:rPr>
              <a:t>Most Indian bands and organizations believe that both the spirit/intent and the literal interpretation of treaties are binding on the Bands and the Crow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8480" y="27432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he En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66680" y="60948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eace and Friendship Trea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562720" cy="547992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457200" y="5943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4572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Numbered Treaties 1-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87680" y="1454040"/>
            <a:ext cx="5779800" cy="5403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05920" y="594360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5338"/>
                </a:moveTo>
                <a:lnTo>
                  <a:pt x="17806" y="12345"/>
                </a:lnTo>
                <a:lnTo>
                  <a:pt x="3794" y="19351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4640" y="3805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Numbered Treaties 6-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03840" cy="5575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077320" y="57913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3805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Numbered Treaties 8-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248160" cy="545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80880" y="56386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3049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James Bay and Northern Quebe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621320" cy="55803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14400" y="53341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3805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Nunavut Agreem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943600" cy="5616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4100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do treaties represent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496960"/>
            <a:ext cx="8896320" cy="25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egotiated rights between then Crown (Federal Government) and First Nations peop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t is a “trust relationship” that exists between the Crown and First Nation peop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Each group trusting the other will fulfill their obligations as stated in the Trea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4640" y="29160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Douglas Trea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14400" y="1243080"/>
            <a:ext cx="7391520" cy="5691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58672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6489" y="10800"/>
                </a:moveTo>
                <a:lnTo>
                  <a:pt x="20502" y="3794"/>
                </a:lnTo>
                <a:lnTo>
                  <a:pt x="2050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4640" y="3805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obinson Trea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400800" cy="5650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57200" y="50292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ypes of Trea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2209680"/>
            <a:ext cx="62658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eace and Friendship Trea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Historic Trea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nternational Trea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odern Trea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omic Sans MS"/>
              </a:rPr>
              <a:t>Peace and Friendship Treati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igned during the 17</a:t>
            </a:r>
            <a:r>
              <a:rPr b="0" lang="en-US" sz="2800" spc="-1" strike="noStrike" baseline="30000">
                <a:solidFill>
                  <a:srgbClr val="ffffcc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and 18th centu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Guarantee of hunting and fishing rights in return for peaceful relationships and military allian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o land cession, but still vali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Peace and Friendship Trea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cc"/>
                </a:solidFill>
                <a:latin typeface="Comic Sans MS"/>
              </a:rPr>
              <a:t>Source: All maps: </a:t>
            </a:r>
            <a:r>
              <a:rPr b="0" i="1" lang="en-US" sz="1400" spc="-1" strike="noStrike">
                <a:solidFill>
                  <a:srgbClr val="ffffcc"/>
                </a:solidFill>
                <a:latin typeface="Times New Roman"/>
              </a:rPr>
              <a:t>http://atlas.nrcan.gc.ca/site/english/maps/historical#indiantreati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Comic Sans MS"/>
              </a:rPr>
              <a:t>Historic Treaties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Robinson Treaties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(1850) Lake Huron and Lake Superior are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 action="ppaction://hlinksldjump"/>
              </a:rPr>
              <a:t>Numbered Treati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(1871 – 1921) – 11 in total (Across the prairies and North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ouglas Treaties (Vancouver Islan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8480" y="6091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nternational Trea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7680" y="20365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Jay Treaty – 1794 treaty between Great Britain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and U.S.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Usually associated with duty exemption for First Nations crossing existing Canada/US border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nternational Covenant on Civil, Cultural and Political Right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(UN agreement between nation state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Modern Trea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7680" y="2209680"/>
            <a:ext cx="88963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James Bay and Northern Quebec Agreement, 197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unavut Agreement, 199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ogrib Claim, 200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haracteristics of a Valid Trea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344680"/>
            <a:ext cx="8896320" cy="344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rties: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Crown/Aboriginal N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gency: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Whoever signs the treaty must have authority to bind the part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ntion: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Parties must intend to create legally binding obliga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ation: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Obligations by both sides to fulfi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mality: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A measure of solemnity (seriousness) to the signing and inte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reaty Interpretation in Litigation (Court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421000"/>
            <a:ext cx="8896320" cy="32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f written terms unclear, minutes from treaty negotiations will be conside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Oral record of the treaty will be given equivalent weight  for interpretation purpo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reaties to be interpreted in such a manner that upholds the honor of the Crow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0T04:33:46Z</dcterms:created>
  <dc:creator>Faculty of Law</dc:creator>
  <dc:description/>
  <dc:language>en-US</dc:language>
  <cp:lastModifiedBy>Roland Bear</cp:lastModifiedBy>
  <dcterms:modified xsi:type="dcterms:W3CDTF">2006-05-18T17:59:19Z</dcterms:modified>
  <cp:revision>13</cp:revision>
  <dc:subject/>
  <dc:title>Treaty Rights in Canada</dc:title>
</cp:coreProperties>
</file>